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F945-926D-4747-B32A-B841BFAF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F87A-4A24-4E06-AC2F-41C2B112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7374-B60E-44AA-A8D3-CEF7D7078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0ED-C402-44D1-B3D0-AA8738DB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D62-6C2B-43EA-A15D-497B9D09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565-D95D-4ECB-B4DC-EFD24BDB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8A9-F83D-417E-B5C7-5207777C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A28A-DE48-4A15-A779-4140C63A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C69C-B8CA-4BCA-9191-DF2A88BD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6F5-6269-4161-B793-BB4D5A1D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712-6045-43FA-A8C2-F655C9F7D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78D2-FCC5-4D9F-BC63-33D7CFF1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562-E069-4E7B-AE54-F32C3110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5A9C-8590-4596-9689-1BBB633A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7683-2B5B-4A01-917C-2606BEAA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459F-EE06-410B-9CF6-740AEEE5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185-BFE1-42C0-9D2E-DBBBFA15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41D0-54BC-4B1D-9A95-5121542EC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2056-0F3B-4384-BC22-8051E9BAD9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F2F67-1A07-4A95-BFD3-A20DA8AE63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1D258-35B3-4A46-A005-9C51280059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4F11F-1010-4B9D-B0D5-739064EB1E8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0A3C-9D7B-44F6-A6F7-19DB53ED20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3091-4CDE-4509-ABAE-CD29ECF9A0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7447-D520-421C-800E-B8767E64B4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E33D-B45D-4F00-A604-C597A3E4BF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65F8-8574-4695-AE1D-BF7D21CFF8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FD06-661F-48FA-AE0B-E5CF255FEA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2E6D0-BDEE-4B9A-8779-BCFDABE02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C692-2596-4DB6-B685-8931E12EA5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EE733-DA76-446F-BAAF-B2308AEFC7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F2511-543B-4D40-89CB-CCE9F98AE0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FD55DC-2E44-4B14-99FA-4345639D42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7816F5-821A-4B10-BED6-8188A4850F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C2640-243D-4B05-8B2A-B9E4601FA9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81194-77F2-4CCC-9B44-C85CA0DBDC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C496E-2CD1-4DC8-B045-9C58ECE948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FEB90-B965-4E58-8244-3F3EB06CC04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12DEC-4D57-4CF1-926A-FA5C797A96D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8D347-FD55-43DC-B3AA-523C61D02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E522-2120-4BF2-A570-AD8608B583E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F6247-8E10-4F58-B04F-DDFACD5306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CD8B60-B358-46A7-A2E1-5C5FF8E32D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CE76B9-60AF-4A21-B77A-43D8FB4B1A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99F0F0-EF0D-468F-8BDA-061DA7FE8C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0FB627-57B1-415C-AC7B-053E41C5A7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867F05-50F4-4DF7-8DEE-E83178B5D08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7559B-D2D5-4625-AE14-23921AC0C68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59B7A-D7B5-4DA6-9CB3-8489C05286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CF810-06C5-40D0-BF7D-00C71EE6E86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3F852-3949-4AEA-B559-127E15848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2038-D0DE-4C15-8228-7D4B44481A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897253-0825-4BAB-9C50-BBF56D58D1C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169E46-D947-4C7B-B3C0-4DB0B11550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B75B0F-B900-4F25-8DD1-8DD62E3695D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7BAC-CF04-405D-9A21-786CEECB51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044B-4A3E-4B43-9754-8A6668CE87A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E6EB1-CEF0-4638-AEE5-FAC2CAF230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4EA44-4652-4106-A9D4-22C2FFD7C6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6B62-5C0F-4348-9CBC-B738FD69AA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93237-760A-4C75-A826-FF6DA4F86A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F8AB-85CC-4655-ABB0-B311DC49B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2D066-00A0-44AC-8B5E-AAD5CD2F541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27E0-1854-453F-A43A-03ADBEA3F96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6B5B0-FDAB-44BF-AB70-5F85DF253B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BEAA7-3A8C-4641-B8DC-14862A3D871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F2B6B-1BC1-4503-A3BC-7F850E0465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D4BE3-18EF-430F-A11D-512B0EF42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F33B-E114-462A-911E-014CADF38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0868-0630-4BED-A115-46052D6E3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D42A6-767E-471A-B66C-9889D41DA3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0CF6-BDCF-49FC-A1C8-4322FDB8A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5374-EB3A-4423-A467-B6AF66373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0E26-2958-416B-A056-BB924A606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F9B1C-3B2E-48E5-9F68-23BCDF5DAC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CE420-C2ED-4CA9-8004-C92B40A25F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2D4BF-C5E3-47E2-A5BB-894031837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97EE8-9C41-4018-ACA6-6C0E221525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457E0-5352-41CB-9F96-08FCF44DE5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02AC-9206-4D12-A952-E0AE67EAC2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72C-9445-48BC-ABA8-F9283261C2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A892-C0BD-4B4B-9EB4-D55A7292D9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CCA-6EE8-4EEB-A526-6969E58068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E4A-6E63-4740-9583-F63234425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3693-753F-4542-8ECB-583A4C4151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C98D-F3C1-4F50-AF59-6860EDCA7F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51D-06C4-459A-82F6-CEB3BF87DA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B9D-AC17-40B1-BBCD-0FE51AEA4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DEF-2FB7-4D05-AE02-B45D5559DD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98E-603D-49D6-B62A-3BECCFB636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867B-0DCE-4C1F-AB14-237ADE7115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577-F11A-4B28-BFBD-B47A2F5C4D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1B668-23A1-4B45-9378-3A1DBF6BB0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4D450-6B24-4DAD-8ED3-FC0EA345F8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24844-DB48-48F3-99C0-EC29A9AD1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DCDA-72EB-47C4-B3EF-5282C06C7B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A2C7D-2E24-403E-814A-A66AA1FE26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E96E3-9536-41E8-ADA5-35882C70CF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46A61-A354-4F30-88EF-63905FA36C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DAA99-2492-4293-9DDB-ADA7D31C36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0153D-B7CB-4DE8-B082-D680802132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04BD7-D6B2-4F98-9A79-D4F570ECDB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B8B6E-DA5A-44D7-8B05-5AC45286E0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73356-E817-4C49-9E0C-1B82961279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14DEC-B1B8-4A93-B092-858D495F7C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E320E-546F-449E-83FB-3CD3572C4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8100-F5D6-4B7F-BE74-1969094F84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2E750-C473-44DF-86F1-9A44DFE4DC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3622F-08AA-46B9-95AB-026A69163B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9D9D2-B186-4AD1-B7A2-E855C7E9669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38288-88C2-49DC-9E17-ABF14D3FAC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EC225-8501-495E-B806-0A59F3A610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84FB8-5228-4020-B529-410B2BC481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2EF1A-05A8-4C86-A5E5-05E9375614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5E01F-01DB-4446-A458-ECAE664C45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4FCCC-3C85-4D3C-8B0F-C8A09ACD09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22062-BF49-4CA3-BF90-59D7B1CCC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ACB6-AE26-41BF-8C2A-B62044DD30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933FF-88D0-4FB1-B1DC-0867E71DE3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4EB0-93C9-48C9-A080-34B685198E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EF31-38F8-40AD-B7F8-8B97BA8417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B659-91A6-4B13-8C6F-55D6B61C28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3298-9DF2-4904-B16D-10C531D627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23E5-46AD-4ED5-9FEC-D98CA8FD36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28A1-241E-4A69-A3BA-32B21539E1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83ED-8727-42C8-8BBA-A160E92D02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4C01-7757-4F22-BE07-0DE94F17C8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D59C-4EC3-46FD-B00B-93ADAC701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FBBC-414F-4E23-A244-D7ECCE7C51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F95D-2CB4-44BB-83AC-112973C260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2E07-25A8-474D-AD68-465E9FA743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BA9B-28F0-497F-8447-BA67BD3EA7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3C8EB-0A3F-4758-A1EB-DDC7F359D9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EC4F5-E85A-4417-A30C-3EF1A8A233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95015-2CCB-4FBE-8001-EC2494E360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98ADB-9A1E-447C-B743-A20E59B7D5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29CFE-887E-4386-86A4-B785816050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D73CF-D9E5-4A7A-BC14-1D1100BB21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37F13-7EFD-41C3-9C7B-75E206D3A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3D25-D011-42DE-9702-1A70D3F1DF3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16DFF-12B1-4DDE-9D5E-D1B0A20B94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1B4DD-08A3-48DD-B02E-0DCB52D932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BBD6C-99BC-4678-9F3B-69CE5047B2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46C36-1C19-44B8-B8A6-7FB8C4738C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3968A-E503-47ED-9CC1-FCD120E24A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80483-52A1-47C3-9AFA-20CF3DC747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ED2F5-32B3-4D42-B3A4-3544A5E6EA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760B3-6037-4F2D-849D-4BED1CEFF3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07979F-34D5-4287-B3DC-655172BE51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3AB51-F41B-4A61-AC2F-E3D239B0E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4A73-1B09-4C2B-91F6-2CD1D96360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A91EC9-D00C-41E1-BE0A-C486B5B3E1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EC0350-722E-46BB-BEEF-1BC15F213B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9319E-6BFC-46B0-9E9D-41CA58F7E3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D987D-F9D2-4587-9D23-3669B11C12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94368D-CD86-4417-80FD-39D414C018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D9FFE-BF00-4EBF-BFC9-AFA095C7F7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D9570-2F3B-4DCB-966D-921D98A0EA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22A3-C181-47BC-AC5B-5FA384E14C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4B16-21BB-45A9-872F-E73EB69B68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A695-5A6C-429A-9E9D-E54011A3D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D1B86681-B925-4358-9F4E-7A2C3343D3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14195793-2350-4FE8-9476-1ACA127FC3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C8B3D50D-446A-4DA8-8DC0-09E6726C0C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8518CAE7-8BAE-4E98-93DB-D112A50D22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B8F79CFF-58AC-40A3-AD76-F4E9FF0C73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41BD9BC8-34DE-4133-97A5-344D22593D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065F4213-7930-4632-A82F-48F9B2603F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F5373F44-DA15-49B2-9A67-26B92026B2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CE4D612E-8C68-4129-A77E-9EECD3EF9D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61F08077-FC4A-43DD-896B-EEE46EDF43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AA134E9C-E27E-4CBD-B0A3-C01125BC4C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01A992FD-CC9A-494E-BE5D-F9EE09F376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B3BAD56C-DD8E-4665-8EC3-B3EE326FB1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 is a word used to identify people, animals, places, things, or ideas. Unlike English, all Spanish nouns, even those that refer to non-living things, have gender; that is, they are considered either masculine or feminine. As in English, nouns in Spanish also have number, meaning that they are either singular or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B3CC40A2-9B5A-4EDC-9496-70FE2D0088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ral of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nouns that end in a vowel form the plural by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a consonant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01l01_p013_02"/>
          <p:cNvPicPr/>
          <p:nvPr/>
        </p:nvPicPr>
        <p:blipFill>
          <a:blip r:embed="rId1"/>
          <a:stretch/>
        </p:blipFill>
        <p:spPr>
          <a:xfrm>
            <a:off x="304920" y="4275000"/>
            <a:ext cx="855504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DDBD8BA-1246-4816-A6E0-9894E0387A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when a singular noun has an accent mark on the last syllable, the accent is dropped from the plural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c01l01_p013_03"/>
          <p:cNvPicPr/>
          <p:nvPr/>
        </p:nvPicPr>
        <p:blipFill>
          <a:blip r:embed="rId1"/>
          <a:stretch/>
        </p:blipFill>
        <p:spPr>
          <a:xfrm>
            <a:off x="457200" y="3149640"/>
            <a:ext cx="82296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09C49482-97AF-46CB-8E47-57D51BB1C0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asculine plural form to refer to a group that includes both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c01l01_p013_04"/>
          <p:cNvPicPr/>
          <p:nvPr/>
        </p:nvPicPr>
        <p:blipFill>
          <a:blip r:embed="rId1"/>
          <a:stretch/>
        </p:blipFill>
        <p:spPr>
          <a:xfrm>
            <a:off x="457200" y="2793960"/>
            <a:ext cx="82296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E934D84-3C78-4E71-9E82-C0701A4450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know, English often uses definite articl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indefinite artic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fore nouns. Spanish also has definite and indefinite articles. Unlike English, Spanish articles vary in form because they agree in gender and number with the nouns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80210611-0EA7-4486-98CD-F9C647F50F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5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definite artic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You use definite articles to refer to specific nou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c01l01_p014_01"/>
          <p:cNvPicPr/>
          <p:nvPr/>
        </p:nvPicPr>
        <p:blipFill>
          <a:blip r:embed="rId1"/>
          <a:stretch/>
        </p:blipFill>
        <p:spPr>
          <a:xfrm>
            <a:off x="457200" y="214632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7F30EA6D-EC76-42E0-A564-96E3DE412C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222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indefinite article, which according to context may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ou use indefinite articles to refer to unspecified persons or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c01l01_p014_02"/>
          <p:cNvPicPr/>
          <p:nvPr/>
        </p:nvPicPr>
        <p:blipFill>
          <a:blip r:embed="rId1"/>
          <a:stretch/>
        </p:blipFill>
        <p:spPr>
          <a:xfrm>
            <a:off x="457200" y="2082960"/>
            <a:ext cx="82296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8B8BD24A-8CE5-4911-A9AD-7C0FEA5FA3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85800" y="2120760"/>
          <a:ext cx="7772400" cy="4264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9156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 definite article for each noun in the first column and an indefinite article for each noun in the second column. The first item has been done for you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26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uad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uje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autobú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escue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omputad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homb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señ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147"/>
          <p:cNvSpPr/>
          <p:nvPr/>
        </p:nvSpPr>
        <p:spPr>
          <a:xfrm>
            <a:off x="141840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99"/>
          <p:cNvSpPr/>
          <p:nvPr/>
        </p:nvSpPr>
        <p:spPr>
          <a:xfrm>
            <a:off x="533088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13"/>
          <p:cNvSpPr/>
          <p:nvPr/>
        </p:nvSpPr>
        <p:spPr>
          <a:xfrm>
            <a:off x="838080" y="3363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el, la, los o l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14"/>
          <p:cNvSpPr/>
          <p:nvPr/>
        </p:nvSpPr>
        <p:spPr>
          <a:xfrm>
            <a:off x="838080" y="3317760"/>
            <a:ext cx="312444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6"/>
          <p:cNvSpPr/>
          <p:nvPr/>
        </p:nvSpPr>
        <p:spPr>
          <a:xfrm>
            <a:off x="4673520" y="3361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un, una, unos o u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7"/>
          <p:cNvSpPr/>
          <p:nvPr/>
        </p:nvSpPr>
        <p:spPr>
          <a:xfrm>
            <a:off x="4673520" y="3317760"/>
            <a:ext cx="304812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21C1FE4E-874B-43DE-BA85-6A83344559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01l01_p012_01"/>
          <p:cNvPicPr/>
          <p:nvPr/>
        </p:nvPicPr>
        <p:blipFill>
          <a:blip r:embed="rId1"/>
          <a:stretch/>
        </p:blipFill>
        <p:spPr>
          <a:xfrm>
            <a:off x="469800" y="1587600"/>
            <a:ext cx="82044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C1A29666-AD9E-4F04-B7F1-9C67B256A6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hown above, nouns that ref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hom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asculine, while nou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refer to fe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uj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enerally femi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E605A55A-8834-4E24-8EE8-8FF663825B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uns that refer to male being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ir corresponding feminine form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c01l01_p012_02"/>
          <p:cNvPicPr/>
          <p:nvPr/>
        </p:nvPicPr>
        <p:blipFill>
          <a:blip r:embed="rId1"/>
          <a:stretch/>
        </p:blipFill>
        <p:spPr>
          <a:xfrm>
            <a:off x="865080" y="3146400"/>
            <a:ext cx="7413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1ED5E100-2387-4C92-A700-44E9F9B64E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culine and feminine form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, so gender is indicated by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culine)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eminine). Some other nouns have identical masculine and feminin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c01l01_p012_03"/>
          <p:cNvPicPr/>
          <p:nvPr/>
        </p:nvPicPr>
        <p:blipFill>
          <a:blip r:embed="rId1"/>
          <a:stretch/>
        </p:blipFill>
        <p:spPr>
          <a:xfrm>
            <a:off x="635040" y="4381560"/>
            <a:ext cx="78850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A47D8210-2D05-47C1-8C37-8CFAB18EDD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01l01_p013_01"/>
          <p:cNvPicPr/>
          <p:nvPr/>
        </p:nvPicPr>
        <p:blipFill>
          <a:blip r:embed="rId1"/>
          <a:stretch/>
        </p:blipFill>
        <p:spPr>
          <a:xfrm>
            <a:off x="1079640" y="1536840"/>
            <a:ext cx="69976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A3DFE53C-FEE6-4D28-AEBC-AD3A3E72B9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noun endings are strongly associated with a specific gender, so you can use them to determine if a noun is masculine or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65FDFBC1-BEC9-449B-A76D-FE359E88FD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gender of nouns that refer to non-living things cannot be determined by foolproof rules, you should memorize the gender of each noun you learn. It is helpful to memorize each noun with its corresponding artic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sculine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min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63EDCFCB-0977-4A34-A143-196B960A06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reason to memorize the gender of every noun is that there are common exceptions to the rules of gender. For examp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ap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dí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are masculin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s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MVLHS</cp:lastModifiedBy>
  <dcterms:modified xsi:type="dcterms:W3CDTF">2010-09-07T16:27:39Z</dcterms:modified>
  <cp:revision>42</cp:revision>
  <dc:subject/>
  <dc:title>PowerPoint Presentation</dc:title>
</cp:coreProperties>
</file>